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72343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CC8-1788-4699-8729-FCF9747D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A93-E513-4D26-8178-95F66251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782-EBE1-4BA2-B43E-808D3AD5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7DA-A5D2-4571-8415-31A62EB2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7E49-316B-401C-B525-A3DBE14A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588E-5C40-414C-8044-11D45989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537F-810C-46E8-A145-45C52B82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811C-C885-4322-83AF-EAA7FA93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A71B-F3E3-4837-ACAA-61B29777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8157-3815-4884-880D-FA643E0B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3D20-25B5-4152-91CB-5E3A5CE7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69B-1E06-40E2-AE7D-96BDA4D7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C02B-E0C1-4084-902E-10BB4C7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D5C3-B61F-49B1-91BA-CE956EF4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4FB9-2F95-495C-B147-C4029342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5C8D-AC4C-45C3-A1C4-19B4573C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7820-D577-4A4E-A1D5-9FFCD051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E07EF-3ADA-47FF-8682-404DAFE3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29A7-8204-4045-A2F6-5177386D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BCD0-93F3-4191-A34F-F42791F3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53E8-4AB9-4B52-A486-9F2E1C2A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5599-B57C-4C4B-B318-F509E9F3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AB2-6A00-47D7-9635-FD31954B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1877-40AB-4AD9-86ED-965DD9CF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17CA5-FBD3-4EFF-AE6C-7E72971C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541D-38D5-4DF2-B1CD-097EBED5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A98D-D708-4634-B2B8-F3ECFC7E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9C1A-6D27-4344-931A-C8D817A9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0C684-9FD6-48FB-84C7-AEF60C69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E4CD-BC36-4A70-9191-49214170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E30EA-B189-4A3D-8DF4-305804E4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83B1-71F6-4C50-90CB-263F0B8F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6289-E46C-4DE4-9C3D-85D4B3A3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14E-7992-4379-A8FD-3951D723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512AC-D9A7-4D11-ABD8-A51012C7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F8123-38A0-42D0-945A-FE7D7DAD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8CDE0-A38D-4582-99C3-B357591E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4B6EE-4250-4A56-909D-065FDC76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02562-538F-407A-ABB3-71EEB4D3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059D-3E77-4DBD-9638-1B33408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AF85-5206-46CB-9885-7D10120A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66247-019D-439E-846F-AF520314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46E3-2CF1-4120-912B-9407B2DE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55AF3-2AA2-4EFB-BE55-C2C7C069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23F-87C3-47D1-B201-26A5C80E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13A2A-D74D-4218-A28D-23D44B91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57822-C9EC-4D1A-962D-2AAFF157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9E3BE-3C26-4BE1-8FB0-05910539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FD88-708C-4464-8464-ABC10E79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B30C8-E388-4E3A-9993-07E32C5C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CBA64-53B9-4943-984C-60E02289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B8D7-45A8-4CFA-A94F-6B81A4E5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41338-0985-47AE-A763-0CA13E1B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09030-F619-4B6D-B9C9-89C1906B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E6A82-B39C-4818-A685-D8C4705B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9E9-4BCA-4335-AF4B-14397DB4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EFBC4-13B5-4788-AD47-1513F8F0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9E81D-6129-49C7-B5C7-821F312D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7962E-C5A4-4173-8416-8AF3C108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E3E64-A6D5-415F-B91E-A897000A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4B353-DD3D-4A90-B644-5FE5513A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F498-238C-4EB6-B20E-0BF3915D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DF721-EA92-446F-A2C3-8766F97C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EBF2C-D123-4101-B082-E1E97DAA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3504-8C98-4873-BD5D-715C2FD3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D0F89-3E33-4D2C-B088-7A0E223F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155-A6FB-424F-B28E-7058A08B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0C197-A394-4361-B8B1-FBF01448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350BE-D3F6-42E4-AF54-F1F3F459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91E08-A9EB-42F3-B719-21324DD2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204A5-639C-45F1-ADEA-94AFCA21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8C2EF-8648-47BC-97E3-5BD86B5E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E17D9-A593-4378-BA2C-B168C8D9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59638-6B0B-4159-BD7E-9B496387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9525A-FBE2-4610-85B6-A01B842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AEF16-C290-41C6-8BC3-AC6708C0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B9A26-FEC1-456A-B4D2-59F22D3C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6BE-EFBF-474E-8019-34AD5E1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3631-2A45-4656-8778-FFB81000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E7F2B-929D-4065-8269-A4FFE517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6429-765D-4DFF-A91D-E921FF79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33B92-45FD-46B8-8191-B5E1A354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A35C1-18E2-489E-9472-ED7B6A80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26B-69F8-4017-9A96-2C1530F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43000" y="239760"/>
            <a:ext cx="9245520" cy="259236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25360" y="1763640"/>
            <a:ext cx="9274320" cy="1395360"/>
            <a:chOff x="225360" y="1763640"/>
            <a:chExt cx="9274320" cy="1395360"/>
          </a:xfrm>
        </p:grpSpPr>
        <p:sp>
          <p:nvSpPr>
            <p:cNvPr id="2" name="Freeform 14"/>
            <p:cNvSpPr/>
            <p:nvPr/>
          </p:nvSpPr>
          <p:spPr>
            <a:xfrm>
              <a:off x="6429600" y="1915560"/>
              <a:ext cx="3058200" cy="7491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784960" y="1780920"/>
              <a:ext cx="5894640" cy="892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007800" y="1793880"/>
              <a:ext cx="5813280" cy="812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964120" y="1779840"/>
              <a:ext cx="3516840" cy="6836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25360" y="1763640"/>
              <a:ext cx="9274320" cy="13953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9A6B-5D39-45DC-A98E-D48EE33286C7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F4F0-8F74-4ACE-AB87-1C535B5731DD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43000" y="239760"/>
            <a:ext cx="9245520" cy="633708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25360" y="5621400"/>
            <a:ext cx="9274320" cy="1398600"/>
            <a:chOff x="225360" y="5621400"/>
            <a:chExt cx="9274320" cy="1398600"/>
          </a:xfrm>
        </p:grpSpPr>
        <p:sp>
          <p:nvSpPr>
            <p:cNvPr id="50" name="Freeform 14"/>
            <p:cNvSpPr/>
            <p:nvPr/>
          </p:nvSpPr>
          <p:spPr>
            <a:xfrm>
              <a:off x="6437880" y="5773680"/>
              <a:ext cx="3061800" cy="7509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788200" y="5638680"/>
              <a:ext cx="5902200" cy="894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3011040" y="5651640"/>
              <a:ext cx="5820840" cy="8143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971320" y="5637600"/>
              <a:ext cx="3521520" cy="685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25360" y="5621400"/>
              <a:ext cx="9274320" cy="1398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7545-243B-4538-A632-9B31C7303E49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005A-0D7B-422B-864E-6488FA212A07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43000" y="239760"/>
            <a:ext cx="9245520" cy="4973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429240" y="4413240"/>
            <a:ext cx="3059280" cy="75096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784600" y="4278240"/>
            <a:ext cx="5895720" cy="8938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3006720" y="4292640"/>
            <a:ext cx="5815080" cy="81288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964120" y="4278240"/>
            <a:ext cx="3516480" cy="68436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25360" y="4260960"/>
            <a:ext cx="9274320" cy="139680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14B4-1599-4FAF-9008-A68D6FBB2380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877B-0593-40F4-B261-6DA2F7B6C2D2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43000" y="239760"/>
            <a:ext cx="9245520" cy="14986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25360" y="749160"/>
            <a:ext cx="9274320" cy="1397160"/>
            <a:chOff x="225360" y="749160"/>
            <a:chExt cx="9274320" cy="1397160"/>
          </a:xfrm>
        </p:grpSpPr>
        <p:sp>
          <p:nvSpPr>
            <p:cNvPr id="145" name="Freeform 14"/>
            <p:cNvSpPr/>
            <p:nvPr/>
          </p:nvSpPr>
          <p:spPr>
            <a:xfrm>
              <a:off x="6429600" y="901440"/>
              <a:ext cx="3058200" cy="750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784960" y="766440"/>
              <a:ext cx="5894640" cy="8931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007800" y="779400"/>
              <a:ext cx="5813280" cy="8136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964120" y="765360"/>
              <a:ext cx="3516840" cy="6843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25360" y="749160"/>
              <a:ext cx="9274320" cy="13971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3840-46EF-416F-B609-BE852AA9A5ED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E7FE-3376-4FE7-8E89-F024E34224B9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43000" y="239760"/>
            <a:ext cx="9245520" cy="14986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25360" y="749160"/>
            <a:ext cx="9274320" cy="1398600"/>
            <a:chOff x="225360" y="749160"/>
            <a:chExt cx="9274320" cy="1398600"/>
          </a:xfrm>
        </p:grpSpPr>
        <p:sp>
          <p:nvSpPr>
            <p:cNvPr id="193" name="Freeform 14"/>
            <p:cNvSpPr/>
            <p:nvPr/>
          </p:nvSpPr>
          <p:spPr>
            <a:xfrm>
              <a:off x="6437880" y="901440"/>
              <a:ext cx="3061800" cy="7509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788200" y="766440"/>
              <a:ext cx="5902200" cy="894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3011040" y="779400"/>
              <a:ext cx="5820840" cy="8143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971320" y="765360"/>
              <a:ext cx="3521520" cy="685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25360" y="749160"/>
              <a:ext cx="9274320" cy="1398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7FDF-4316-4469-A443-D667A4D1F18D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027A-ADB9-49AD-ADEB-38E68EACB542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43000" y="239760"/>
            <a:ext cx="9245520" cy="633708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25360" y="5621400"/>
            <a:ext cx="9274320" cy="1398600"/>
            <a:chOff x="225360" y="5621400"/>
            <a:chExt cx="9274320" cy="1398600"/>
          </a:xfrm>
        </p:grpSpPr>
        <p:sp>
          <p:nvSpPr>
            <p:cNvPr id="241" name="Freeform 14"/>
            <p:cNvSpPr/>
            <p:nvPr/>
          </p:nvSpPr>
          <p:spPr>
            <a:xfrm>
              <a:off x="6437880" y="5773680"/>
              <a:ext cx="3061800" cy="7509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788200" y="5638680"/>
              <a:ext cx="5902200" cy="894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3011040" y="5651640"/>
              <a:ext cx="5820840" cy="8143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971320" y="5637600"/>
              <a:ext cx="3521520" cy="685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25360" y="5621400"/>
              <a:ext cx="9274320" cy="1398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1B14-D38C-4A45-8B9D-AF843B5F0602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BCFD-560D-4115-9BF5-37DB4725A8AC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43000" y="239760"/>
            <a:ext cx="9245520" cy="14986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25360" y="749160"/>
            <a:ext cx="9274320" cy="1398600"/>
            <a:chOff x="225360" y="749160"/>
            <a:chExt cx="9274320" cy="1398600"/>
          </a:xfrm>
        </p:grpSpPr>
        <p:sp>
          <p:nvSpPr>
            <p:cNvPr id="289" name="Freeform 14"/>
            <p:cNvSpPr/>
            <p:nvPr/>
          </p:nvSpPr>
          <p:spPr>
            <a:xfrm>
              <a:off x="6437880" y="901440"/>
              <a:ext cx="3061800" cy="7509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788200" y="766440"/>
              <a:ext cx="5902200" cy="894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3011040" y="779400"/>
              <a:ext cx="5820840" cy="8143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971320" y="765360"/>
              <a:ext cx="3521520" cy="685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25360" y="749160"/>
              <a:ext cx="9274320" cy="1398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D759-930E-4CCC-A1B4-D9B472724EC6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3338-F25D-4629-A833-3A6FE6B6836E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>
            <a:off x="2235240" y="3413160"/>
            <a:ext cx="6500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DilleniaUPC"/>
              </a:rPr>
              <a:t>Why don't you talk to your parents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DilleniaUPC"/>
              <a:ea typeface="DilleniaUPC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995560" y="4338720"/>
            <a:ext cx="27208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微软雅黑"/>
              </a:rPr>
              <a:t>R 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八年级下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444600" y="3252960"/>
            <a:ext cx="27381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zh-CN" sz="4200" spc="-1" strike="noStrike">
                <a:solidFill>
                  <a:srgbClr val="0000ff"/>
                </a:solidFill>
                <a:latin typeface="Arial"/>
              </a:rPr>
              <a:t>Unit 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444600" y="415116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2995560" y="4919760"/>
            <a:ext cx="44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AutoShape 2"/>
          <p:cNvSpPr/>
          <p:nvPr/>
        </p:nvSpPr>
        <p:spPr>
          <a:xfrm>
            <a:off x="2095560" y="223920"/>
            <a:ext cx="4197240" cy="11570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809640" y="165420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3. The Taylors are a typical American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typica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典型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be typical o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意为“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特征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a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typica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bourgeois neighbor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这是一个典型的中产阶级地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Botswana is not a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typica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Africa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博茨瓦纳并不是典型的非洲国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>
            <a:off x="1866960" y="169920"/>
            <a:ext cx="4197240" cy="11574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755640" y="1327320"/>
            <a:ext cx="833436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4. Maybe I could cut out a f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of their activities,but I believe these activities are important for my children’s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cut ou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动词短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删除；删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”，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cut sth out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相当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stop do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cut ou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the paragraph in this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我删除了这篇文章的一个段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642960" y="1203480"/>
            <a:ext cx="829296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cut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有关的短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o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切断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of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的数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停止向某人供应某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someone out of all fea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使某人黯然失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e cut out f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天然适合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out of the same clo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一路货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气味相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out of whole clo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凭空捏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it o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停止（做某事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2124000" y="46080"/>
            <a:ext cx="4197600" cy="11574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AutoShape 2"/>
          <p:cNvSpPr/>
          <p:nvPr/>
        </p:nvSpPr>
        <p:spPr>
          <a:xfrm>
            <a:off x="2073240" y="222120"/>
            <a:ext cx="4197240" cy="11588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563400" y="1584360"/>
            <a:ext cx="87314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5. In some families,competiton starts very young and continues until the kids get ol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continu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持续；继续存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可用作不及物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也可用作及物动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ey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continu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down until they came to some pockets of natural g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他们继续往下钻，终於找到了一些天然气的气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Wet weather may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continu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for a few more d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多雨的天气可能还要持续好几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/>
          <p:cNvSpPr/>
          <p:nvPr/>
        </p:nvSpPr>
        <p:spPr>
          <a:xfrm>
            <a:off x="1957320" y="222120"/>
            <a:ext cx="4197240" cy="11588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565200" y="1625760"/>
            <a:ext cx="87948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tinue to do s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持续做完一件事再做别的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；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tinue doing s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指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做一件事中断后再继续做这件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finishing my homework ,I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tinue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elp my mother with hous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写完作业后帮妈妈做家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finishing my homework ,I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tinue  help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y mother with hous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原来在帮妈妈做家务）写完作业后继续帮妈妈做家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770040" y="1108080"/>
            <a:ext cx="8620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6. And they are always comparing them with other children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他们总是将他们和其他的孩子比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compar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比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compare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e copy with the original, but there was not much difference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我比较了复印件和原件，但是差别不是很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compare...with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比较；对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Compar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this new TV set with the old one, you will see which is better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将这台新电视机与旧电视机一比，你就会看出哪一台更好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/>
          <p:cNvSpPr/>
          <p:nvPr/>
        </p:nvSpPr>
        <p:spPr>
          <a:xfrm>
            <a:off x="1905120" y="209520"/>
            <a:ext cx="4197240" cy="11574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矩形 6" descr=""/>
          <p:cNvPicPr/>
          <p:nvPr/>
        </p:nvPicPr>
        <p:blipFill>
          <a:blip r:embed="rId1"/>
          <a:stretch/>
        </p:blipFill>
        <p:spPr>
          <a:xfrm>
            <a:off x="3078000" y="560520"/>
            <a:ext cx="3381480" cy="8586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"/>
          <p:cNvSpPr/>
          <p:nvPr/>
        </p:nvSpPr>
        <p:spPr>
          <a:xfrm>
            <a:off x="522360" y="1419120"/>
            <a:ext cx="85676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this is mistake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With my opinion                        B. In my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According to my opinion           D.On my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Jack is late again. It is_______ of him to keep others wa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normal      B.ordinary       C.common      D.ty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illiam has cut his smoking ____ to five cigarettes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out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. off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. short              D.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"/>
          <p:cNvSpPr/>
          <p:nvPr/>
        </p:nvSpPr>
        <p:spPr>
          <a:xfrm>
            <a:off x="4591800" y="3309840"/>
            <a:ext cx="491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"/>
          <p:cNvSpPr/>
          <p:nvPr/>
        </p:nvSpPr>
        <p:spPr>
          <a:xfrm>
            <a:off x="1666800" y="1419120"/>
            <a:ext cx="49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"/>
          <p:cNvSpPr/>
          <p:nvPr/>
        </p:nvSpPr>
        <p:spPr>
          <a:xfrm>
            <a:off x="5388120" y="5003640"/>
            <a:ext cx="49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矩形 6" descr=""/>
          <p:cNvPicPr/>
          <p:nvPr/>
        </p:nvPicPr>
        <p:blipFill>
          <a:blip r:embed="rId1"/>
          <a:stretch/>
        </p:blipFill>
        <p:spPr>
          <a:xfrm>
            <a:off x="3078000" y="560520"/>
            <a:ext cx="3381480" cy="8586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"/>
          <p:cNvSpPr/>
          <p:nvPr/>
        </p:nvSpPr>
        <p:spPr>
          <a:xfrm>
            <a:off x="592200" y="1419120"/>
            <a:ext cx="8510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r. Bethune 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 working in spite of cutting his hand during an 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stopped      B. continued     C. forgot       D. enj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are most children under too much press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cause their parents always compare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with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B.  by                  C.  to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D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 Once the actor Edwards told his fan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yourself and d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let anybody ____ you aroun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pull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.push                C.take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D.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1"/>
          <p:cNvSpPr/>
          <p:nvPr/>
        </p:nvSpPr>
        <p:spPr>
          <a:xfrm>
            <a:off x="3078000" y="1419120"/>
            <a:ext cx="49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"/>
          <p:cNvSpPr/>
          <p:nvPr/>
        </p:nvSpPr>
        <p:spPr>
          <a:xfrm>
            <a:off x="1693800" y="3921120"/>
            <a:ext cx="49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"/>
          <p:cNvSpPr/>
          <p:nvPr/>
        </p:nvSpPr>
        <p:spPr>
          <a:xfrm>
            <a:off x="4299120" y="5535720"/>
            <a:ext cx="49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u=2650296767,541340855&amp;fm=23&amp;gp=0"/>
          <p:cNvPicPr/>
          <p:nvPr/>
        </p:nvPicPr>
        <p:blipFill>
          <a:blip r:embed="rId1"/>
          <a:stretch/>
        </p:blipFill>
        <p:spPr>
          <a:xfrm>
            <a:off x="154080" y="1830240"/>
            <a:ext cx="4279680" cy="35672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566640" y="539748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pinion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n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意见，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u=671469469,1586253782&amp;fm=23&amp;gp=0"/>
          <p:cNvPicPr/>
          <p:nvPr/>
        </p:nvPicPr>
        <p:blipFill>
          <a:blip r:embed="rId2"/>
          <a:stretch/>
        </p:blipFill>
        <p:spPr>
          <a:xfrm>
            <a:off x="4237200" y="1830240"/>
            <a:ext cx="5135400" cy="35672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913360" y="5397480"/>
            <a:ext cx="345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kill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技艺；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2879640" y="260280"/>
            <a:ext cx="3456000" cy="1201680"/>
          </a:xfrm>
          <a:prstGeom prst="flowChartDocument">
            <a:avLst/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w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u=3479759568,2857852835&amp;fm=21&amp;gp=0"/>
          <p:cNvPicPr/>
          <p:nvPr/>
        </p:nvPicPr>
        <p:blipFill>
          <a:blip r:embed="rId1"/>
          <a:srcRect l="0" t="0" r="0" b="3882"/>
          <a:stretch/>
        </p:blipFill>
        <p:spPr>
          <a:xfrm>
            <a:off x="279360" y="1335240"/>
            <a:ext cx="3990960" cy="411624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3"/>
          <p:cNvSpPr/>
          <p:nvPr/>
        </p:nvSpPr>
        <p:spPr>
          <a:xfrm>
            <a:off x="2921040" y="131760"/>
            <a:ext cx="3456000" cy="1203480"/>
          </a:xfrm>
          <a:prstGeom prst="flowChartDocument">
            <a:avLst/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w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812880" y="5451480"/>
            <a:ext cx="34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otball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足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u=2439171243,1859296311&amp;fm=90&amp;gp=0"/>
          <p:cNvPicPr/>
          <p:nvPr/>
        </p:nvPicPr>
        <p:blipFill>
          <a:blip r:embed="rId2"/>
          <a:srcRect l="0" t="10388" r="0" b="0"/>
          <a:stretch/>
        </p:blipFill>
        <p:spPr>
          <a:xfrm>
            <a:off x="4794120" y="1820880"/>
            <a:ext cx="4314960" cy="34243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5626080" y="5245200"/>
            <a:ext cx="319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quick  adj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迅速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u=150587222,3361899146&amp;fm=23&amp;gp=0"/>
          <p:cNvPicPr/>
          <p:nvPr/>
        </p:nvPicPr>
        <p:blipFill>
          <a:blip r:embed="rId1"/>
          <a:stretch/>
        </p:blipFill>
        <p:spPr>
          <a:xfrm>
            <a:off x="398520" y="1758960"/>
            <a:ext cx="4205160" cy="28036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3"/>
          <p:cNvSpPr/>
          <p:nvPr/>
        </p:nvSpPr>
        <p:spPr>
          <a:xfrm>
            <a:off x="2874960" y="260280"/>
            <a:ext cx="3456000" cy="1201680"/>
          </a:xfrm>
          <a:prstGeom prst="flowChartDocument">
            <a:avLst/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w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978440" y="2432160"/>
            <a:ext cx="431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ntinue   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持续；继续存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5"/>
          <p:cNvGrpSpPr/>
          <p:nvPr/>
        </p:nvGrpSpPr>
        <p:grpSpPr>
          <a:xfrm>
            <a:off x="4014720" y="4986360"/>
            <a:ext cx="5273640" cy="1954080"/>
            <a:chOff x="4014720" y="4986360"/>
            <a:chExt cx="5273640" cy="1954080"/>
          </a:xfrm>
        </p:grpSpPr>
        <p:pic>
          <p:nvPicPr>
            <p:cNvPr id="354" name="Picture 6" descr="u=1366903248,460050297&amp;fm=21&amp;gp=0"/>
            <p:cNvPicPr/>
            <p:nvPr/>
          </p:nvPicPr>
          <p:blipFill>
            <a:blip r:embed="rId2"/>
            <a:stretch/>
          </p:blipFill>
          <p:spPr>
            <a:xfrm>
              <a:off x="4014720" y="4986360"/>
              <a:ext cx="3524400" cy="19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" descr="u=1366903248,460050297&amp;fm=21&amp;gp=0"/>
            <p:cNvPicPr/>
            <p:nvPr/>
          </p:nvPicPr>
          <p:blipFill>
            <a:blip r:embed="rId3"/>
            <a:stretch/>
          </p:blipFill>
          <p:spPr>
            <a:xfrm>
              <a:off x="7539120" y="5546880"/>
              <a:ext cx="174924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Text Box 8"/>
          <p:cNvSpPr/>
          <p:nvPr/>
        </p:nvSpPr>
        <p:spPr>
          <a:xfrm>
            <a:off x="555480" y="5288040"/>
            <a:ext cx="345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are   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627120" y="409680"/>
            <a:ext cx="8361360" cy="1325520"/>
          </a:xfrm>
          <a:prstGeom prst="flowChartAlternateProcess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a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the after-school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and your classmates usually do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165320" y="1994040"/>
            <a:ext cx="73659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do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have after-school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hang out with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watch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play sports or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291960" y="1981080"/>
            <a:ext cx="9168120" cy="1038240"/>
          </a:xfrm>
          <a:prstGeom prst="flowChartAlternateProcess">
            <a:avLst/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b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 the article and answer the ques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2235240" y="368280"/>
            <a:ext cx="5362560" cy="1235160"/>
          </a:xfrm>
          <a:custGeom>
            <a:avLst/>
            <a:gdLst>
              <a:gd name="textAreaLeft" fmla="*/ 1340640 w 5362560"/>
              <a:gd name="textAreaRight" fmla="*/ 4021920 w 5362560"/>
              <a:gd name="textAreaTop" fmla="*/ 36360 h 1235160"/>
              <a:gd name="textAreaBottom" fmla="*/ 92664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453960" y="3375000"/>
            <a:ext cx="714384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 What is the common problem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inese and American famil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Who gives their opinion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U4 Section B 2b.mp3" descr=""/>
          <p:cNvPicPr/>
          <p:nvPr/>
        </p:nvPicPr>
        <p:blipFill>
          <a:blip r:embed="rId1"/>
          <a:stretch/>
        </p:blipFill>
        <p:spPr>
          <a:xfrm>
            <a:off x="8682120" y="825480"/>
            <a:ext cx="777960" cy="77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24134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2"/>
          <p:cNvSpPr/>
          <p:nvPr/>
        </p:nvSpPr>
        <p:spPr>
          <a:xfrm>
            <a:off x="2235240" y="368280"/>
            <a:ext cx="5362560" cy="1235160"/>
          </a:xfrm>
          <a:custGeom>
            <a:avLst/>
            <a:gdLst>
              <a:gd name="textAreaLeft" fmla="*/ 1340640 w 5362560"/>
              <a:gd name="textAreaRight" fmla="*/ 4021920 w 5362560"/>
              <a:gd name="textAreaTop" fmla="*/ 36360 h 1235160"/>
              <a:gd name="textAreaBottom" fmla="*/ 92664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604800" y="1603440"/>
            <a:ext cx="870444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What is the common problem for Chines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merican famil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Who gives their opinions abou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933480" y="2610000"/>
            <a:ext cx="74865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common problem for Chinese and American families is that children have too many after-school activies which cause them to be str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933480" y="5362560"/>
            <a:ext cx="666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hy Taylor, Linda Miller, and Dr. Alice Green give their opinions about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2"/>
          <p:cNvSpPr/>
          <p:nvPr/>
        </p:nvSpPr>
        <p:spPr>
          <a:xfrm>
            <a:off x="5388120" y="155520"/>
            <a:ext cx="4197240" cy="11574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673200" y="1312920"/>
            <a:ext cx="84168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1. Who gives their opinions about the problem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opin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意见；想法；看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多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介词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of, on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或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about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连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既可用作可数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也可用作不可数名词；常用于短语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in one's opinion...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在某人看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I can't agree with your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opin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in this respect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在这方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我不赞同你的意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's your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opinion abou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is tri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对这次旅行有什么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/>
          <p:cNvSpPr/>
          <p:nvPr/>
        </p:nvSpPr>
        <p:spPr>
          <a:xfrm>
            <a:off x="1851120" y="114480"/>
            <a:ext cx="4197240" cy="11570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426960" y="1515960"/>
            <a:ext cx="92948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2. Many of them are learning exam skills so that they can get into a good high school and later a good univers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ski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技艺；技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，表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熟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不可数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e crisis put his courage and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ski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to the t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这次危难是对他的勇气和技能的考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Match your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ski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against the experts in this qui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在这一测验中你与专家较量一下技巧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2:32:59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